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EFC0-4B1F-4483-9615-617CB169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1251-7B67-4384-99B4-B116FF87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0CCB-37E3-4B2E-B8B9-64E648B2E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03F5-12AB-4675-B975-38FC1A1AF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2907-0C1F-4990-97C8-043ACCB6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2E44-FF2F-4BDD-9679-1BCB3A95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BE49-2CF5-4AD5-B7AD-E00DDE18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3681-1F3B-4A54-8C16-62AD8AED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4EFC-C3ED-45F0-A163-9D1E1B39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3F91-5C70-40C0-911D-00A06971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CE8B-4E78-42AA-AF36-6CA58B36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737E-0E67-4A8B-ACD9-2F683DCA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E3D4-8401-4F78-9AE7-20E0F150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481C-A001-4C67-9B25-B45C4CE5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4224-C7D8-4252-91BD-E4194B8F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58E7-6D14-457A-962D-D874756D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B547-3288-48D5-90E6-CAFDC4ADC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E8F7-1AC9-4C85-9C37-F1A0C437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A356-01CA-433C-A79E-9B1790B2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67B8-DBA4-4198-8D15-42B66526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AFCB-039C-436F-A924-CE8C272C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315B-49C0-41B0-AD9E-A3AB5023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8940-045C-445E-9BDE-746BB03F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08FD-4465-44B8-A631-0AAB6C4B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0de"/>
            </a:gs>
            <a:gs pos="100000">
              <a:srgbClr val="ecf0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7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8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0A86-CB1D-4CAE-996A-8EB06A1A6CC0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0de"/>
            </a:gs>
            <a:gs pos="100000">
              <a:srgbClr val="ecf0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Line 8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124F-4D4B-41DF-83BC-4020FB29714A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garanteprivacy.i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9D65-2C72-4185-A207-634F4F8E1E8A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2843280" y="191628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476360" y="1989000"/>
            <a:ext cx="64803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Una guida per capire le norme sulla privac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Il Decreto Ministeriale 305/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Identificazione dei dati sensibili e giudiziari trattati e delle relative operazioni effettuate dal Ministero Pubblica Istruzione in attuazione del codice sulla priva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Picture 14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6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AutoShape 28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AutoShape 29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AutoShape 30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CDC8-F71E-4354-975F-E855E0B1B7B4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1600200" y="1752480"/>
            <a:ext cx="648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Scheda </a:t>
            </a:r>
            <a:r>
              <a:rPr b="1" lang="it-IT" sz="2400" spc="-1" strike="noStrike">
                <a:solidFill>
                  <a:srgbClr val="cc0000"/>
                </a:solidFill>
                <a:latin typeface="Brigitte"/>
                <a:ea typeface="Times New Roman"/>
              </a:rPr>
              <a:t>1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: Personale dell'amministrazione e personale scolastico (docenti e ATA)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25"/>
          <p:cNvSpPr/>
          <p:nvPr/>
        </p:nvSpPr>
        <p:spPr>
          <a:xfrm>
            <a:off x="1600200" y="266688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La </a:t>
            </a:r>
            <a:r>
              <a:rPr b="1" i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"scheda"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individua tutti i dati che possono essere oggetto di trattamento per le procedure di selezione, di reclutamento, di instaurazione, di gestione e di cessazione del rapporto di lavor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AutoShape 26"/>
          <p:cNvSpPr/>
          <p:nvPr/>
        </p:nvSpPr>
        <p:spPr>
          <a:xfrm>
            <a:off x="8153280" y="3048120"/>
            <a:ext cx="609840" cy="1584360"/>
          </a:xfrm>
          <a:custGeom>
            <a:avLst/>
            <a:gdLst>
              <a:gd name="textAreaLeft" fmla="*/ 81720 w 609840"/>
              <a:gd name="textAreaRight" fmla="*/ 528120 w 60984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27"/>
          <p:cNvSpPr/>
          <p:nvPr/>
        </p:nvSpPr>
        <p:spPr>
          <a:xfrm>
            <a:off x="1600200" y="4038480"/>
            <a:ext cx="6480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Brigitte"/>
                <a:ea typeface="Times New Roman"/>
              </a:rPr>
              <a:t>dati inerenti lo stato di salute, l'adesione a sindacati, quelli sulle convinzioni religiose per la concessione di permessi legati a particolari festività o per il reclutamento degli insegnanti di religione, i dati sulle convinzioni filosofiche o d'altro genere per eventuali connessioni con lo svolgimento del servizio di leva o come obiettore di coscienza, i dati di carattere giudiziario nell'ambito delle procedure concorsuali che coinvolgono l'interessato, le informazioni sulla vita sessuale connessi unicamente al caso eventuale della rettifica di attribuzione di sesso</a:t>
            </a:r>
            <a:r>
              <a:rPr b="1" lang="it-IT" sz="1400" spc="-1" strike="noStrike">
                <a:solidFill>
                  <a:srgbClr val="000000"/>
                </a:solidFill>
                <a:latin typeface="Brigitte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31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2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33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AutoShape 34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AutoShape 35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AutoShape 36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65B8-0337-4109-A85E-8C1CD9A473B1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1600200" y="1752480"/>
            <a:ext cx="648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Scheda </a:t>
            </a:r>
            <a:r>
              <a:rPr b="1" lang="it-IT" sz="2400" spc="-1" strike="noStrike">
                <a:solidFill>
                  <a:srgbClr val="cc0000"/>
                </a:solidFill>
                <a:latin typeface="Brigitte"/>
                <a:ea typeface="Times New Roman"/>
              </a:rPr>
              <a:t>1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: Personale dell'amministrazione e personale scolastico (docenti e ATA)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1600200" y="266688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In sostanza nella scheda n. 1 vengono elencati tutti i procedimenti finalizzati alla gestione del personale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la selezione e il reclutamento, l'instaurazione, la gestione e alla cessazione del rapporto di lavor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2987640" y="45086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SALU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4932360" y="4508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ADESIONI SINDAC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1692360" y="515772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CONVINZIONI RELIGIO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5076720" y="5157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CONVINZIONI FILOSOFICH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2627280" y="57340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DATI GIUDIZIA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5148360" y="57340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VITA SESSUA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22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23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Text Box 24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AutoShape 25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AutoShape 26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AutoShape 27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5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6163-74CE-4D51-8075-667B7F13ABA2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1600200" y="1752480"/>
            <a:ext cx="648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Scheda </a:t>
            </a:r>
            <a:r>
              <a:rPr b="1" lang="it-IT" sz="2400" spc="-1" strike="noStrike">
                <a:solidFill>
                  <a:srgbClr val="cc0000"/>
                </a:solidFill>
                <a:latin typeface="Brigitte"/>
                <a:ea typeface="Times New Roman"/>
              </a:rPr>
              <a:t>1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: Personale dell'amministrazione e personale scolastico (docenti e ATA)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1600200" y="266688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In sostanza nella scheda n. 1 vengono elencati tutti i procedimenti finalizzati alla gestione del personale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la selezione e il reclutamento, l'instaurazione, la gestione e alla cessazione del rapporto di lavor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1763640" y="400536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NON BASTA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1619280" y="458136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Oltre all’elencazione dei procedimenti sono elencate anche talune operazioni che materialmente vengono compiute per evadere tali procedimen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 Box 39"/>
          <p:cNvSpPr/>
          <p:nvPr/>
        </p:nvSpPr>
        <p:spPr>
          <a:xfrm>
            <a:off x="1763640" y="566100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Verifichiamoli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43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44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45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46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47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AutoShape 48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6966-D047-4ADB-96F7-BDB15EAA582B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600200" y="1752480"/>
            <a:ext cx="648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Scheda </a:t>
            </a:r>
            <a:r>
              <a:rPr b="1" lang="it-IT" sz="2400" spc="-1" strike="noStrike">
                <a:solidFill>
                  <a:srgbClr val="cc0000"/>
                </a:solidFill>
                <a:latin typeface="Brigitte"/>
                <a:ea typeface="Times New Roman"/>
              </a:rPr>
              <a:t>2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: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Gestione del contenzioso e procedimenti disciplinari</a:t>
            </a:r>
            <a:r>
              <a:rPr b="0" lang="it-IT" sz="1800" spc="-1" strike="noStrike">
                <a:solidFill>
                  <a:srgbClr val="000000"/>
                </a:solidFill>
                <a:latin typeface="Brigit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1619280" y="2708280"/>
            <a:ext cx="64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La </a:t>
            </a:r>
            <a:r>
              <a:rPr b="1" i="1" lang="it-IT" sz="1800" spc="-1" strike="noStrike">
                <a:solidFill>
                  <a:srgbClr val="000000"/>
                </a:solidFill>
                <a:latin typeface="Brigitte"/>
              </a:rPr>
              <a:t>"scheda"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  individua il trattamento dei dati sensibili e giudiziari concernente tutte le attività relative alla difesa in giudizio del MPI e delle istituzioni scolastiche nel contenzioso del lavoro e amministrativo nonché quelle connesse alla gestione degli affari penali e civil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AutoShape 14"/>
          <p:cNvSpPr/>
          <p:nvPr/>
        </p:nvSpPr>
        <p:spPr>
          <a:xfrm>
            <a:off x="8172360" y="3716280"/>
            <a:ext cx="609840" cy="1584360"/>
          </a:xfrm>
          <a:custGeom>
            <a:avLst/>
            <a:gdLst>
              <a:gd name="textAreaLeft" fmla="*/ 81720 w 609840"/>
              <a:gd name="textAreaRight" fmla="*/ 528120 w 60984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15"/>
          <p:cNvSpPr/>
          <p:nvPr/>
        </p:nvSpPr>
        <p:spPr>
          <a:xfrm>
            <a:off x="1619280" y="458136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Essa assume rilievo soprattutto nelle ipotesi di contenzioso amministrativo e del lavoro, nonché nelle questioni civili e penal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1763640" y="566100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Verifichiamola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20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21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22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AutoShape 23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AutoShape 24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AutoShape 25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BCC2-7E4F-49FB-839E-99BEC667878F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AutoShape 5">
            <a:hlinkClick r:id="" action="ppaction://hlinkshowjump?jump=nextslide"/>
          </p:cNvPr>
          <p:cNvSpPr/>
          <p:nvPr/>
        </p:nvSpPr>
        <p:spPr>
          <a:xfrm>
            <a:off x="7740720" y="623736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AutoShape 6">
            <a:hlinkClick r:id="" action="ppaction://hlinkshowjump?jump=firstslide"/>
          </p:cNvPr>
          <p:cNvSpPr/>
          <p:nvPr/>
        </p:nvSpPr>
        <p:spPr>
          <a:xfrm>
            <a:off x="7380360" y="623736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AutoShape 7">
            <a:hlinkClick r:id="" action="ppaction://hlinkshowjump?jump=previousslide"/>
          </p:cNvPr>
          <p:cNvSpPr/>
          <p:nvPr/>
        </p:nvSpPr>
        <p:spPr>
          <a:xfrm>
            <a:off x="6877080" y="623736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1600200" y="1752480"/>
            <a:ext cx="648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Scheda </a:t>
            </a:r>
            <a:r>
              <a:rPr b="1" lang="it-IT" sz="2400" spc="-1" strike="noStrike">
                <a:solidFill>
                  <a:srgbClr val="cc0000"/>
                </a:solidFill>
                <a:latin typeface="Brigitte"/>
                <a:ea typeface="Times New Roman"/>
              </a:rPr>
              <a:t>3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: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Organismi collegiale e commissioni istituzionali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1619280" y="2708280"/>
            <a:ext cx="64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La </a:t>
            </a:r>
            <a:r>
              <a:rPr b="1" i="1" lang="it-IT" sz="1800" spc="-1" strike="noStrike">
                <a:solidFill>
                  <a:srgbClr val="000000"/>
                </a:solidFill>
                <a:latin typeface="Brigitte"/>
              </a:rPr>
              <a:t>"scheda"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  individua il trattamento e la descrizione dei dati sensibili nell' ambito degli organismi collegiali e delle commissioni istituzionali, organi rappresentativi sia del personale amministrativo e scolastico, sia degli studenti, che delle famiglie e delle associazioni sindacali.</a:t>
            </a:r>
            <a:r>
              <a:rPr b="0" lang="it-IT" sz="1800" spc="-1" strike="noStrike">
                <a:solidFill>
                  <a:srgbClr val="000000"/>
                </a:solidFill>
                <a:latin typeface="Brigit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8172360" y="3716280"/>
            <a:ext cx="609840" cy="1584360"/>
          </a:xfrm>
          <a:custGeom>
            <a:avLst/>
            <a:gdLst>
              <a:gd name="textAreaLeft" fmla="*/ 81720 w 609840"/>
              <a:gd name="textAreaRight" fmla="*/ 528120 w 60984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1619280" y="450864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Il dato sensibile trattato è quello dell'appartenenza alle organizzazioni sindacali, con riferimento agli organismi o comitati che richiedano la partecipazione di rappresentanti delle organizzazioni sindacali.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1763640" y="580536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Verifichiamola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17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18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 Box 19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AutoShape 20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AutoShape 21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22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5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3D5A-ACB8-4FD8-A01E-8781EC514776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1600200" y="1752480"/>
            <a:ext cx="648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Scheda </a:t>
            </a:r>
            <a:r>
              <a:rPr b="1" lang="it-IT" sz="2400" spc="-1" strike="noStrike">
                <a:solidFill>
                  <a:srgbClr val="cc0000"/>
                </a:solidFill>
                <a:latin typeface="Brigitte"/>
                <a:ea typeface="Times New Roman"/>
              </a:rPr>
              <a:t>4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: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Alunni nelle fasi propedeutiche all'avvio dell'anno scolastico</a:t>
            </a:r>
            <a:r>
              <a:rPr b="0" lang="it-IT" sz="1800" spc="-1" strike="noStrike">
                <a:solidFill>
                  <a:srgbClr val="000000"/>
                </a:solidFill>
                <a:latin typeface="Brigit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 Box 10"/>
          <p:cNvSpPr/>
          <p:nvPr/>
        </p:nvSpPr>
        <p:spPr>
          <a:xfrm>
            <a:off x="1619280" y="2708280"/>
            <a:ext cx="64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La </a:t>
            </a:r>
            <a:r>
              <a:rPr b="1" i="1" lang="it-IT" sz="1800" spc="-1" strike="noStrike">
                <a:solidFill>
                  <a:srgbClr val="000000"/>
                </a:solidFill>
                <a:latin typeface="Brigitte"/>
              </a:rPr>
              <a:t>"scheda"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  individua il trattamento di tutti i dati coinvolti nelle attività propedeutiche all'avvio dell'anno scolastico: si tratta dei dati forniti dagli alunni e dalle famiglie ai fini della frequenza dei corsi di studio di ogni ordine e grado</a:t>
            </a:r>
            <a:r>
              <a:rPr b="0" lang="it-IT" sz="1800" spc="-1" strike="noStrike">
                <a:solidFill>
                  <a:srgbClr val="000000"/>
                </a:solidFill>
                <a:latin typeface="Brigit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11"/>
          <p:cNvSpPr/>
          <p:nvPr/>
        </p:nvSpPr>
        <p:spPr>
          <a:xfrm>
            <a:off x="8172360" y="3573360"/>
            <a:ext cx="609840" cy="1584360"/>
          </a:xfrm>
          <a:custGeom>
            <a:avLst/>
            <a:gdLst>
              <a:gd name="textAreaLeft" fmla="*/ 81720 w 609840"/>
              <a:gd name="textAreaRight" fmla="*/ 528120 w 60984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1619280" y="450864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è possibile, in tal caso, imbattersi in dati relativi alle origini razziali ed etniche, alle convinzioni religiose, allo stato di salute, alle vicende giudiziari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Text Box 13"/>
          <p:cNvSpPr/>
          <p:nvPr/>
        </p:nvSpPr>
        <p:spPr>
          <a:xfrm>
            <a:off x="1692360" y="57340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Verifichiamola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" name="Picture 17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18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AutoShape 20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AutoShape 21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AutoShape 22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5EA0-6AD7-48EE-A172-79683AB4A3B6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1600200" y="1752480"/>
            <a:ext cx="648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Scheda </a:t>
            </a:r>
            <a:r>
              <a:rPr b="1" lang="it-IT" sz="2400" spc="-1" strike="noStrike">
                <a:solidFill>
                  <a:srgbClr val="cc0000"/>
                </a:solidFill>
                <a:latin typeface="Brigitte"/>
                <a:ea typeface="Times New Roman"/>
              </a:rPr>
              <a:t>5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: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Alunni nell'attività didattica e nella valutazione</a:t>
            </a:r>
            <a:r>
              <a:rPr b="0" lang="it-IT" sz="1800" spc="-1" strike="noStrike">
                <a:solidFill>
                  <a:srgbClr val="000000"/>
                </a:solidFill>
                <a:latin typeface="Brigit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1619280" y="270828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La </a:t>
            </a:r>
            <a:r>
              <a:rPr b="1" i="1" lang="it-IT" sz="1800" spc="-1" strike="noStrike">
                <a:solidFill>
                  <a:srgbClr val="000000"/>
                </a:solidFill>
                <a:latin typeface="Brigitte"/>
              </a:rPr>
              <a:t>"scheda"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  attiene al rilevamento e alla trattazione di dati raccolti nell'ambito dell'attività educativa, didattica e formativa e di valutazion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11"/>
          <p:cNvSpPr/>
          <p:nvPr/>
        </p:nvSpPr>
        <p:spPr>
          <a:xfrm>
            <a:off x="8172360" y="3141720"/>
            <a:ext cx="609840" cy="1584360"/>
          </a:xfrm>
          <a:custGeom>
            <a:avLst/>
            <a:gdLst>
              <a:gd name="textAreaLeft" fmla="*/ 81720 w 609840"/>
              <a:gd name="textAreaRight" fmla="*/ 528120 w 60984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1619280" y="4005360"/>
            <a:ext cx="64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Brigitte"/>
              </a:rPr>
              <a:t>anche in tal caso possono rilevare i dati sensibili relativi alle origini razziali ed etniche, alle convinzioni religiose, allo stato di salute, ai dati giudiziari, alle convinzioni politiche - per la costituzione e il funzionamento delle Consulte degli studenti</a:t>
            </a:r>
            <a:r>
              <a:rPr b="0" lang="it-IT" sz="1800" spc="-1" strike="noStrike">
                <a:solidFill>
                  <a:srgbClr val="000000"/>
                </a:solidFill>
                <a:latin typeface="Brigit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ext Box 13"/>
          <p:cNvSpPr/>
          <p:nvPr/>
        </p:nvSpPr>
        <p:spPr>
          <a:xfrm>
            <a:off x="1692360" y="57340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Verifichiamola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Picture 17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18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19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AutoShape 20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AutoShape 21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22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782E-5695-4B58-8530-4D9079D797BC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1600200" y="1752480"/>
            <a:ext cx="648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Scheda </a:t>
            </a:r>
            <a:r>
              <a:rPr b="1" lang="it-IT" sz="2400" spc="-1" strike="noStrike">
                <a:solidFill>
                  <a:srgbClr val="cc0000"/>
                </a:solidFill>
                <a:latin typeface="Brigitte"/>
                <a:ea typeface="Times New Roman"/>
              </a:rPr>
              <a:t>5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: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Alunni nell'attività didattica e nella valutazione</a:t>
            </a:r>
            <a:r>
              <a:rPr b="0" lang="it-IT" sz="1800" spc="-1" strike="noStrike">
                <a:solidFill>
                  <a:srgbClr val="000000"/>
                </a:solidFill>
                <a:latin typeface="Brigit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1600200" y="266688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In sostanza nella scheda n. 5 si prende in considerazione principalmente l’attività svolta dal corpo docente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1763640" y="400536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NON BASTA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Text Box 12"/>
          <p:cNvSpPr/>
          <p:nvPr/>
        </p:nvSpPr>
        <p:spPr>
          <a:xfrm>
            <a:off x="1619280" y="458136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Oltre all’elencazione dei procedimenti sono elencate anche talune operazioni che materialmente vengono compiute per evadere tali procedimen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ext Box 13"/>
          <p:cNvSpPr/>
          <p:nvPr/>
        </p:nvSpPr>
        <p:spPr>
          <a:xfrm>
            <a:off x="1763640" y="566100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Verifichiamoli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Picture 17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18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 Box 19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AutoShape 20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AutoShape 21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AutoShape 22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5BA8-DD7E-4440-A6EF-05C353075B51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1600200" y="17524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Scheda </a:t>
            </a:r>
            <a:r>
              <a:rPr b="1" lang="it-IT" sz="2400" spc="-1" strike="noStrike">
                <a:solidFill>
                  <a:srgbClr val="cc0000"/>
                </a:solidFill>
                <a:latin typeface="Brigitte"/>
                <a:ea typeface="Times New Roman"/>
              </a:rPr>
              <a:t>6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: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Scuole non statali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 Box 10"/>
          <p:cNvSpPr/>
          <p:nvPr/>
        </p:nvSpPr>
        <p:spPr>
          <a:xfrm>
            <a:off x="1619280" y="2349360"/>
            <a:ext cx="648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La </a:t>
            </a:r>
            <a:r>
              <a:rPr b="1" i="1" lang="it-IT" sz="1800" spc="-1" strike="noStrike">
                <a:solidFill>
                  <a:srgbClr val="000000"/>
                </a:solidFill>
                <a:latin typeface="Brigitte"/>
              </a:rPr>
              <a:t>"scheda"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  individua i dati sensibili e loro trattamento nel contesto degli Enti vigilati e delle Scuole non statali. Nell'ambito delle procedure di accreditamento e di autorizzazione delle istituzioni scolastiche non statali, l'Amministrazione scolastica periferica esercita attività di: </a:t>
            </a:r>
            <a:r>
              <a:rPr b="1" i="1" lang="it-IT" sz="1800" spc="-1" strike="noStrike">
                <a:solidFill>
                  <a:srgbClr val="000000"/>
                </a:solidFill>
                <a:latin typeface="Brigitte"/>
              </a:rPr>
              <a:t>concessione o revoca della parità; concessione della parifica (scuola primaria); concessione o revoca del riconoscimento legale (scuole secondarie); concessione o revoca della presa d'at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Picture 17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18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19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0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AutoShape 21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AutoShape 22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6F3F-23A9-42CD-BF12-714ED19220CD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9"/>
          <p:cNvSpPr/>
          <p:nvPr/>
        </p:nvSpPr>
        <p:spPr>
          <a:xfrm>
            <a:off x="1600200" y="17524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Scheda </a:t>
            </a:r>
            <a:r>
              <a:rPr b="1" lang="it-IT" sz="2400" spc="-1" strike="noStrike">
                <a:solidFill>
                  <a:srgbClr val="cc0000"/>
                </a:solidFill>
                <a:latin typeface="Brigitte"/>
                <a:ea typeface="Times New Roman"/>
              </a:rPr>
              <a:t>6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: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Scuole non statali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1619280" y="234936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Dati sensibili emergono anche in caso di: attività di vigilanza e controllo effettuate dall'Amministrazione centrale e periferica che prevedono l'accesso ai fascicoli personali dei docenti e degli alunn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AutoShape 11"/>
          <p:cNvSpPr/>
          <p:nvPr/>
        </p:nvSpPr>
        <p:spPr>
          <a:xfrm>
            <a:off x="4572000" y="3716280"/>
            <a:ext cx="720720" cy="719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1619280" y="472428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Dati sensibili sono, inoltre, trattati dai Dirigenti scolastici nelle scuole dell'infanzia e primarie incaricati della vigilanza sulle scuole non statal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8" name="Picture 16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17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Text Box 18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AutoShape 19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AutoShape 20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AutoShape 21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1817-FCCC-48D9-8F0D-ABC7662FB283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843280" y="191628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Introduzione: I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1619280" y="191628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Il codice sulla privacy dedica due articoli all’ambito scuola. In particolare gli artt. 95 e 9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7164360" y="2565360"/>
            <a:ext cx="827280" cy="1133640"/>
          </a:xfrm>
          <a:prstGeom prst="wedgeRectCallout">
            <a:avLst>
              <a:gd name="adj1" fmla="val -172458"/>
              <a:gd name="adj2" fmla="val -61902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2" descr="gazzetta 3"/>
          <p:cNvPicPr/>
          <p:nvPr/>
        </p:nvPicPr>
        <p:blipFill>
          <a:blip r:embed="rId1"/>
          <a:stretch/>
        </p:blipFill>
        <p:spPr>
          <a:xfrm>
            <a:off x="7236000" y="2637000"/>
            <a:ext cx="720720" cy="100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3"/>
          <p:cNvSpPr/>
          <p:nvPr/>
        </p:nvSpPr>
        <p:spPr>
          <a:xfrm>
            <a:off x="1619280" y="278136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In realtà altre normative prendono in considerazione il problema della tutela della riservatezza nell’ambito della scuo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1619280" y="3789360"/>
            <a:ext cx="504036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rigitte"/>
              </a:rPr>
              <a:t>In particolare oltre alla normativa generale vi sono dei richiami specifici che son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rigitte"/>
              </a:rPr>
              <a:t>Art. Art. 330 bis TU 297/94 (oggi abrogat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rigitte"/>
              </a:rPr>
              <a:t>Art. 2, c. 2  d.p.r. 249/98 (regolamento sullo statuto delle studentesse e degli student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AutoShape 15"/>
          <p:cNvSpPr/>
          <p:nvPr/>
        </p:nvSpPr>
        <p:spPr>
          <a:xfrm>
            <a:off x="7164360" y="4581360"/>
            <a:ext cx="827280" cy="1133640"/>
          </a:xfrm>
          <a:prstGeom prst="wedgeRectCallout">
            <a:avLst>
              <a:gd name="adj1" fmla="val -131000"/>
              <a:gd name="adj2" fmla="val 29972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6" descr="gazzetta 3"/>
          <p:cNvPicPr/>
          <p:nvPr/>
        </p:nvPicPr>
        <p:blipFill>
          <a:blip r:embed="rId2"/>
          <a:stretch/>
        </p:blipFill>
        <p:spPr>
          <a:xfrm>
            <a:off x="7236000" y="4653000"/>
            <a:ext cx="720720" cy="100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0" descr="logo_italian_v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1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AutoShape 23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AutoShape 24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AutoShape 25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0028-7E71-4FB4-B51C-F61A0F53C2C9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9"/>
          <p:cNvSpPr/>
          <p:nvPr/>
        </p:nvSpPr>
        <p:spPr>
          <a:xfrm>
            <a:off x="1600200" y="1752480"/>
            <a:ext cx="648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Scheda </a:t>
            </a:r>
            <a:r>
              <a:rPr b="1" lang="it-IT" sz="2400" spc="-1" strike="noStrike">
                <a:solidFill>
                  <a:srgbClr val="cc0000"/>
                </a:solidFill>
                <a:latin typeface="Brigitte"/>
                <a:ea typeface="Times New Roman"/>
              </a:rPr>
              <a:t>7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: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Rapporti scuola-famiglie: gestione del contenzios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Text Box 10"/>
          <p:cNvSpPr/>
          <p:nvPr/>
        </p:nvSpPr>
        <p:spPr>
          <a:xfrm>
            <a:off x="1619280" y="270828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La </a:t>
            </a:r>
            <a:r>
              <a:rPr b="1" i="1" lang="it-IT" sz="1800" spc="-1" strike="noStrike">
                <a:solidFill>
                  <a:srgbClr val="000000"/>
                </a:solidFill>
                <a:latin typeface="Brigitte"/>
              </a:rPr>
              <a:t>"scheda"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  individua i dati sensibili e giudiziari concernenti le attività connesse alla instaurazione di contenzioso (reclami, ricorsi, esposti, provvedimenti disciplinari etc.) con gli alunni e con le famiglie.</a:t>
            </a:r>
            <a:r>
              <a:rPr b="0" lang="it-IT" sz="1800" spc="-1" strike="noStrike">
                <a:solidFill>
                  <a:srgbClr val="000000"/>
                </a:solidFill>
                <a:latin typeface="Brigit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Text Box 12"/>
          <p:cNvSpPr/>
          <p:nvPr/>
        </p:nvSpPr>
        <p:spPr>
          <a:xfrm>
            <a:off x="1619280" y="436572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Si tratta di una scheda di particolare rilievo per coloro che operano negli uffici amministrativ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AutoShape 13"/>
          <p:cNvSpPr/>
          <p:nvPr/>
        </p:nvSpPr>
        <p:spPr>
          <a:xfrm>
            <a:off x="8172360" y="3357720"/>
            <a:ext cx="609840" cy="1584000"/>
          </a:xfrm>
          <a:custGeom>
            <a:avLst/>
            <a:gdLst>
              <a:gd name="textAreaLeft" fmla="*/ 81720 w 609840"/>
              <a:gd name="textAreaRight" fmla="*/ 528120 w 609840"/>
              <a:gd name="textAreaTop" fmla="*/ 277200 h 1584000"/>
              <a:gd name="textAreaBottom" fmla="*/ 1148400 h 158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Text Box 14"/>
          <p:cNvSpPr/>
          <p:nvPr/>
        </p:nvSpPr>
        <p:spPr>
          <a:xfrm>
            <a:off x="1692360" y="57340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Verifichiamola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Picture 18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19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20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AutoShape 21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AutoShape 22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AutoShape 23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5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4256-BAEC-478C-B7EA-12E9F9B7311D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1600200" y="17524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Commento : le ragioni del regolamen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1619280" y="242100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Si tratta di un provvedimento importante, previsto dagli articoli 20 e 21 del D. L.vo 196/03 e più volte sollecitato dal Garante per la protezione della privacy,…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1619280" y="450864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Che ha la funzione di specificare i tipi di dati che possono essere trattati dalle scuole, le operazioni che su di essi sono eseguibili e le finalità di rilevante interesse pubblico persegui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AutoShape 14"/>
          <p:cNvSpPr/>
          <p:nvPr/>
        </p:nvSpPr>
        <p:spPr>
          <a:xfrm>
            <a:off x="4572000" y="3500280"/>
            <a:ext cx="720720" cy="719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8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19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Text Box 20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AutoShape 21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AutoShape 22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AutoShape 23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8A65-ED36-4B2F-9FFA-0DAEAF77EB11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1600200" y="17524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Commento : le ragioni del regolamen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Text Box 10"/>
          <p:cNvSpPr/>
          <p:nvPr/>
        </p:nvSpPr>
        <p:spPr>
          <a:xfrm>
            <a:off x="1187280" y="2708280"/>
            <a:ext cx="309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Senza l’adozione del Regolamento, che risponde alle prescrizioni del Garante non sarebbe stato possibile, nelle scuole, operare il trattamento dei dati sensibili e giudiziari, dopo il 28 febbraio 2007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AutoShape 13"/>
          <p:cNvSpPr/>
          <p:nvPr/>
        </p:nvSpPr>
        <p:spPr>
          <a:xfrm rot="16200000">
            <a:off x="4426560" y="3645720"/>
            <a:ext cx="720720" cy="71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Text Box 14"/>
          <p:cNvSpPr/>
          <p:nvPr/>
        </p:nvSpPr>
        <p:spPr>
          <a:xfrm>
            <a:off x="5292720" y="2997360"/>
            <a:ext cx="2879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In tale data sarebbe scaduta l’ennesima proroga dei termini stabilita da successivi interventi legislativi del governo e del parlamento.</a:t>
            </a:r>
            <a:r>
              <a:rPr b="0" lang="it-IT" sz="1800" spc="-1" strike="noStrike">
                <a:solidFill>
                  <a:srgbClr val="000000"/>
                </a:solidFill>
                <a:latin typeface="Brigit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5" name="Picture 18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19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Text Box 20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1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2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AutoShape 23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5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67C0-2C03-4301-B3FA-EDDE4A29596E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 Box 9"/>
          <p:cNvSpPr/>
          <p:nvPr/>
        </p:nvSpPr>
        <p:spPr>
          <a:xfrm>
            <a:off x="1600200" y="17524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Commento : le ragioni del regolamen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Text Box 10"/>
          <p:cNvSpPr/>
          <p:nvPr/>
        </p:nvSpPr>
        <p:spPr>
          <a:xfrm>
            <a:off x="1619280" y="249228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Inoltre è molto importante non perdere di vista il contesto in cui il trattamento si svolge descritto in maniera riassuntiva dalle schede medesim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Text Box 13"/>
          <p:cNvSpPr/>
          <p:nvPr/>
        </p:nvSpPr>
        <p:spPr>
          <a:xfrm>
            <a:off x="1619280" y="3789360"/>
            <a:ext cx="64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Ad esempio per le operazioni propedeutiche di avvio dell’anno scolastico (scheda n.4) non è consentito il trattamento dei dati relativi alle convinzioni filosofiche, che invece è consentito per la gestione del contenzioso e procedimenti disciplinari (scheda n.2).</a:t>
            </a:r>
            <a:r>
              <a:rPr b="0" lang="it-IT" sz="1800" spc="-1" strike="noStrike">
                <a:solidFill>
                  <a:srgbClr val="000000"/>
                </a:solidFill>
                <a:latin typeface="Brigit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AutoShape 14"/>
          <p:cNvSpPr/>
          <p:nvPr/>
        </p:nvSpPr>
        <p:spPr>
          <a:xfrm>
            <a:off x="8172360" y="2852640"/>
            <a:ext cx="609840" cy="1584360"/>
          </a:xfrm>
          <a:custGeom>
            <a:avLst/>
            <a:gdLst>
              <a:gd name="textAreaLeft" fmla="*/ 81720 w 609840"/>
              <a:gd name="textAreaRight" fmla="*/ 528120 w 60984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18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19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Text Box 20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AutoShape 21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AutoShape 22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AutoShape 23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D014-E64F-44CC-88B2-02FC11B59ECB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1600200" y="17524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Commento : le ragioni del regolamen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10"/>
          <p:cNvSpPr/>
          <p:nvPr/>
        </p:nvSpPr>
        <p:spPr>
          <a:xfrm>
            <a:off x="1619280" y="249228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In pratica, le schede, sono molto importanti dal punto di vista operativo e costituiscono una ”guida” obbligatoria da cui le scuole non possono deroga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 Box 11"/>
          <p:cNvSpPr/>
          <p:nvPr/>
        </p:nvSpPr>
        <p:spPr>
          <a:xfrm>
            <a:off x="1619280" y="3789360"/>
            <a:ext cx="64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Ad esempio, nella gestione del rapporto di lavoro (scheda n. 1), i dati idonei a rilevare l’adesione al sindacato possono essere trattati solo per operare la ritenuta sindacale e per l’esercizio dei diritti sindacali. Un trattamento per fini diversi sarebbe illegittim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8" name="Picture 16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17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Text Box 18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AutoShape 19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AutoShape 20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AutoShape 21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AB67-5CA6-4585-89EC-9737BA0BFF6B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Text Box 9"/>
          <p:cNvSpPr/>
          <p:nvPr/>
        </p:nvSpPr>
        <p:spPr>
          <a:xfrm>
            <a:off x="1600200" y="1752480"/>
            <a:ext cx="64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Gli adempimenti conseguenti il regolamen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Text Box 10"/>
          <p:cNvSpPr/>
          <p:nvPr/>
        </p:nvSpPr>
        <p:spPr>
          <a:xfrm>
            <a:off x="1619280" y="249228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Brigitte"/>
              </a:rPr>
              <a:t>L’adozione del Regolamento da parte del Ministero non richiede una successiva adozione da parte delle scuole, obbligate per legge a rispettarlo,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11"/>
          <p:cNvSpPr/>
          <p:nvPr/>
        </p:nvSpPr>
        <p:spPr>
          <a:xfrm>
            <a:off x="1619280" y="429264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Brigitte"/>
              </a:rPr>
              <a:t>ma comporta la necessità di rivedere e modificare alcuni atti già adottati e i procedimenti interni alla scuola seguiti nel trattamento dei dati sensibili e giudiziari.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AutoShape 12"/>
          <p:cNvSpPr/>
          <p:nvPr/>
        </p:nvSpPr>
        <p:spPr>
          <a:xfrm>
            <a:off x="4572000" y="3500280"/>
            <a:ext cx="720720" cy="719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0" name="Picture 16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17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Text Box 18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AutoShape 19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AutoShape 20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AutoShape 21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6B8A-A8D4-4F60-B45B-083E57EF979D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Text Box 9"/>
          <p:cNvSpPr/>
          <p:nvPr/>
        </p:nvSpPr>
        <p:spPr>
          <a:xfrm>
            <a:off x="1600200" y="1752480"/>
            <a:ext cx="64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Gli adempimenti conseguenti il regolamen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Text Box 10"/>
          <p:cNvSpPr/>
          <p:nvPr/>
        </p:nvSpPr>
        <p:spPr>
          <a:xfrm>
            <a:off x="1619280" y="24922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Brigitte"/>
              </a:rPr>
              <a:t>Adempimento n. </a:t>
            </a:r>
            <a:r>
              <a:rPr b="1" i="1" lang="it-IT" sz="2400" spc="-1" strike="noStrike">
                <a:solidFill>
                  <a:srgbClr val="cc0000"/>
                </a:solidFill>
                <a:latin typeface="Brigitt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1619280" y="328464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nel Documento Programmatico per la Sicurezza la parte relativa all’elenco dei dati personali trattati sia adeguata alle prescrizioni e indicazioni contenute nelle schede;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1" name="Picture 16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17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Text Box 18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AutoShape 19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AutoShape 20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AutoShape 21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A502-B20D-4B58-A1C8-1714ED6EFEBC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1600200" y="1752480"/>
            <a:ext cx="64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Gli adempimenti conseguenti il regolamen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Text Box 10"/>
          <p:cNvSpPr/>
          <p:nvPr/>
        </p:nvSpPr>
        <p:spPr>
          <a:xfrm>
            <a:off x="1619280" y="24922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Brigitte"/>
              </a:rPr>
              <a:t>Adempimento n. </a:t>
            </a:r>
            <a:r>
              <a:rPr b="1" i="1" lang="it-IT" sz="2400" spc="-1" strike="noStrike">
                <a:solidFill>
                  <a:srgbClr val="cc0000"/>
                </a:solidFill>
                <a:latin typeface="Brigitt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Text Box 11"/>
          <p:cNvSpPr/>
          <p:nvPr/>
        </p:nvSpPr>
        <p:spPr>
          <a:xfrm>
            <a:off x="1619280" y="3284640"/>
            <a:ext cx="64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il Titolare del trattamento (dirigente scolastico) adegui la nomina del Responsabile del trattamento richiamando le prescrizioni contenute nel Regolamento e fornendo gli indirizzi per la loro attuazione nei procedimenti amministrativi e nella gestione delle attività;</a:t>
            </a:r>
            <a:r>
              <a:rPr b="0" lang="it-IT" sz="1800" spc="-1" strike="noStrike">
                <a:solidFill>
                  <a:srgbClr val="000000"/>
                </a:solidFill>
                <a:latin typeface="Brigit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2" name="Picture 15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16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Text Box 17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AutoShape 18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AutoShape 19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AutoShape 20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50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02E6-7DC3-4C0F-8249-DED263934A2D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Text Box 9"/>
          <p:cNvSpPr/>
          <p:nvPr/>
        </p:nvSpPr>
        <p:spPr>
          <a:xfrm>
            <a:off x="1600200" y="1752480"/>
            <a:ext cx="64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Gli adempimenti conseguenti il regolamen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Text Box 10"/>
          <p:cNvSpPr/>
          <p:nvPr/>
        </p:nvSpPr>
        <p:spPr>
          <a:xfrm>
            <a:off x="1619280" y="24922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Brigitte"/>
              </a:rPr>
              <a:t>Adempimento n. </a:t>
            </a:r>
            <a:r>
              <a:rPr b="1" i="1" lang="it-IT" sz="2400" spc="-1" strike="noStrike">
                <a:solidFill>
                  <a:srgbClr val="cc0000"/>
                </a:solidFill>
                <a:latin typeface="Brigitt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Text Box 11"/>
          <p:cNvSpPr/>
          <p:nvPr/>
        </p:nvSpPr>
        <p:spPr>
          <a:xfrm>
            <a:off x="1619280" y="3284640"/>
            <a:ext cx="64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il Responsabile del trattamento (per la parte relativa al personale posto alle sue dirette dipendenze) e il Titolare del trattamento (per il personale docente) adeguino le designazioni degli incaricati del trattamento, modificando, se necessario, le autorizzazioni concesse e le linee guida emanate;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3" name="Picture 15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16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Text Box 17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AutoShape 18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19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AutoShape 20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EE37-F801-4161-9163-275FB7425D37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Text Box 9"/>
          <p:cNvSpPr/>
          <p:nvPr/>
        </p:nvSpPr>
        <p:spPr>
          <a:xfrm>
            <a:off x="1600200" y="1752480"/>
            <a:ext cx="64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Gli adempimenti conseguenti il regolamen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Text Box 10"/>
          <p:cNvSpPr/>
          <p:nvPr/>
        </p:nvSpPr>
        <p:spPr>
          <a:xfrm>
            <a:off x="1619280" y="24922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Brigitte"/>
              </a:rPr>
              <a:t>Adempimento n. </a:t>
            </a:r>
            <a:r>
              <a:rPr b="1" i="1" lang="it-IT" sz="2400" spc="-1" strike="noStrike">
                <a:solidFill>
                  <a:srgbClr val="cc0000"/>
                </a:solidFill>
                <a:latin typeface="Brigitte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Text Box 11"/>
          <p:cNvSpPr/>
          <p:nvPr/>
        </p:nvSpPr>
        <p:spPr>
          <a:xfrm>
            <a:off x="1619280" y="328464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la conoscenza del Regolamento sia oggetto dell’attività di formazione del personale incaricato prevista dal D.L.vo 196/03;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15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16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Text Box 17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AutoShape 18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AutoShape 19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AutoShape 20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66E9-960A-4388-A010-D5EB43886B8E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2843280" y="191628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Introduzione: I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1619280" y="191628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La normativa prevista dal codice sulla privacy in sostanza non fa altro che ricalcare le affermazioni contenute nel vecchio art. 330 bis TU 297/9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1619280" y="306864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Mentre le affermazioni di principio contenute all’art. 2, c. 2  d.p.r. 249/98 appaiono superate per il fatto che vi è solo un generico rimando alla “tutela della riservatezza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AutoShape 28"/>
          <p:cNvSpPr/>
          <p:nvPr/>
        </p:nvSpPr>
        <p:spPr>
          <a:xfrm>
            <a:off x="4572000" y="4038480"/>
            <a:ext cx="720720" cy="719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1600200" y="4724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Si può dunque affermare che una regolamentazione completa del diritto alla tutela dei dati personali (e non solo della riservatezza) si è avuta con il codice della privacy al quale di recente si è aggiunto il DM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33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4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35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AutoShape 36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AutoShape 37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AutoShape 38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4CFC-191C-45B2-9545-14784BA4C47D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Text Box 9"/>
          <p:cNvSpPr/>
          <p:nvPr/>
        </p:nvSpPr>
        <p:spPr>
          <a:xfrm>
            <a:off x="1600200" y="1752480"/>
            <a:ext cx="64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Gli adempimenti conseguenti il regolamen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 Box 10"/>
          <p:cNvSpPr/>
          <p:nvPr/>
        </p:nvSpPr>
        <p:spPr>
          <a:xfrm>
            <a:off x="1619280" y="24922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Brigitte"/>
              </a:rPr>
              <a:t>Adempimento n. </a:t>
            </a:r>
            <a:r>
              <a:rPr b="1" i="1" lang="it-IT" sz="2400" spc="-1" strike="noStrike">
                <a:solidFill>
                  <a:srgbClr val="cc0000"/>
                </a:solidFill>
                <a:latin typeface="Brigitte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 Box 11"/>
          <p:cNvSpPr/>
          <p:nvPr/>
        </p:nvSpPr>
        <p:spPr>
          <a:xfrm>
            <a:off x="1619280" y="328464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nell’informativa agli interessati si faccia riferimento al rispetto da parte della scuola alle prescrizioni del Regolamento;</a:t>
            </a:r>
            <a:r>
              <a:rPr b="0" lang="it-IT" sz="1800" spc="-1" strike="noStrike">
                <a:solidFill>
                  <a:srgbClr val="000000"/>
                </a:solidFill>
                <a:latin typeface="Brigit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5" name="Picture 15" descr="logo_italian_v"/>
          <p:cNvPicPr/>
          <p:nvPr/>
        </p:nvPicPr>
        <p:blipFill>
          <a:blip r:embed="rId1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16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 Box 17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AutoShape 18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AutoShape 19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AutoShape 20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50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BC3C-7D92-4862-AA29-EDC8914AE82B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Text Box 9"/>
          <p:cNvSpPr/>
          <p:nvPr/>
        </p:nvSpPr>
        <p:spPr>
          <a:xfrm>
            <a:off x="1600200" y="1752480"/>
            <a:ext cx="64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Gli adempimenti conseguenti il regolamen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Text Box 10"/>
          <p:cNvSpPr/>
          <p:nvPr/>
        </p:nvSpPr>
        <p:spPr>
          <a:xfrm>
            <a:off x="1619280" y="24922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Brigitte"/>
              </a:rPr>
              <a:t>Adempimento n. </a:t>
            </a:r>
            <a:r>
              <a:rPr b="1" i="1" lang="it-IT" sz="2400" spc="-1" strike="noStrike">
                <a:solidFill>
                  <a:srgbClr val="cc0000"/>
                </a:solidFill>
                <a:latin typeface="Brigitte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Text Box 11"/>
          <p:cNvSpPr/>
          <p:nvPr/>
        </p:nvSpPr>
        <p:spPr>
          <a:xfrm>
            <a:off x="1619280" y="328464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si dia evidenza dell’aggiornamento del Documento Programmatico per la Sicurezza nella relazione al programma annuale. Tale adempimento va fatto entro il 31 marzo.</a:t>
            </a:r>
            <a:r>
              <a:rPr b="0" lang="it-IT" sz="1800" spc="-1" strike="noStrike">
                <a:solidFill>
                  <a:srgbClr val="000000"/>
                </a:solidFill>
                <a:latin typeface="Brigit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6" name="Picture 18" descr="logo_italian_v"/>
          <p:cNvPicPr/>
          <p:nvPr/>
        </p:nvPicPr>
        <p:blipFill>
          <a:blip r:embed="rId1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19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 Box 20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AutoShape 21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AutoShape 22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AutoShape 23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500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081F-2F0A-40CD-A222-9011901EF620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4" name="Picture 6" descr="logo_italian_v"/>
          <p:cNvPicPr/>
          <p:nvPr/>
        </p:nvPicPr>
        <p:blipFill>
          <a:blip r:embed="rId1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7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Text Box 8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AutoShape 9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AutoShape 10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AutoShape 11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Rectangle 12"/>
          <p:cNvSpPr/>
          <p:nvPr/>
        </p:nvSpPr>
        <p:spPr>
          <a:xfrm>
            <a:off x="1258920" y="1844640"/>
            <a:ext cx="7122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Monotype Corsiva"/>
              </a:rPr>
              <a:t>Note sul copy r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Rectangle 13"/>
          <p:cNvSpPr/>
          <p:nvPr/>
        </p:nvSpPr>
        <p:spPr>
          <a:xfrm>
            <a:off x="1258920" y="2349360"/>
            <a:ext cx="720072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Monotype Corsiva"/>
              </a:rPr>
              <a:t>L’utente riconosce che tutti i diritti associati a questo prodotto multimediale ed ai suoi componenti, al manuale ed alla confezione, oltre i diritti relativi al trademark, royalty e copyright, sono di proprietà dell’avvocato Vincenza Pierri e sono protetti dalla legislazione italiana o altre leggi, trattati e accordi internazionali relativi alla proprietà intellettuale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Monotype Corsiva"/>
              </a:rPr>
              <a:t>E’ vietato copiare, riprodurre o trasferire in alcuna forma, sia per intero sia parzialmente, la presente documentazione senza autorizzazione scritta dell’auto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14"/>
          <p:cNvSpPr/>
          <p:nvPr/>
        </p:nvSpPr>
        <p:spPr>
          <a:xfrm>
            <a:off x="1547640" y="5589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Verdana"/>
              </a:rPr>
              <a:t>F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25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2CF1-2288-43C3-8A66-A1F2EE1DE1B8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843280" y="191628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Introduzione: I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1619280" y="177336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Occorre anche considerare che nell’ambito scuola la tutela della riservatezza e dei dati personali non è argomento che riguardi solo gli studen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1619280" y="278136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Infatti dati utilizzati e trattati dalla scuola concernon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WordArt 12"/>
          <p:cNvSpPr txBox="1"/>
          <p:nvPr/>
        </p:nvSpPr>
        <p:spPr>
          <a:xfrm>
            <a:off x="1692360" y="357336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gitte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gitte"/>
              <a:ea typeface="Brigitte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2195640" y="364500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</a:rPr>
              <a:t>gli </a:t>
            </a:r>
            <a:r>
              <a:rPr b="1" i="1" lang="it-IT" sz="2400" spc="-1" strike="noStrike">
                <a:solidFill>
                  <a:srgbClr val="000000"/>
                </a:solidFill>
                <a:latin typeface="Brigitte"/>
              </a:rPr>
              <a:t>alunni </a:t>
            </a:r>
            <a:r>
              <a:rPr b="1" lang="it-IT" sz="2400" spc="-1" strike="noStrike">
                <a:solidFill>
                  <a:srgbClr val="000000"/>
                </a:solidFill>
                <a:latin typeface="Brigitte"/>
              </a:rPr>
              <a:t>e le rispettive </a:t>
            </a:r>
            <a:r>
              <a:rPr b="1" i="1" lang="it-IT" sz="2400" spc="-1" strike="noStrike">
                <a:solidFill>
                  <a:srgbClr val="000000"/>
                </a:solidFill>
                <a:latin typeface="Brigitte"/>
              </a:rPr>
              <a:t>famigl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WordArt 14"/>
          <p:cNvSpPr txBox="1"/>
          <p:nvPr/>
        </p:nvSpPr>
        <p:spPr>
          <a:xfrm>
            <a:off x="1692360" y="44370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gitte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gitte"/>
              <a:ea typeface="Brigitte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2195640" y="450864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</a:rPr>
              <a:t>il </a:t>
            </a:r>
            <a:r>
              <a:rPr b="1" i="1" lang="it-IT" sz="2400" spc="-1" strike="noStrike">
                <a:solidFill>
                  <a:srgbClr val="000000"/>
                </a:solidFill>
                <a:latin typeface="Brigitte"/>
              </a:rPr>
              <a:t>personale</a:t>
            </a:r>
            <a:r>
              <a:rPr b="1" lang="it-IT" sz="2400" spc="-1" strike="noStrike">
                <a:solidFill>
                  <a:srgbClr val="000000"/>
                </a:solidFill>
                <a:latin typeface="Brigitte"/>
              </a:rPr>
              <a:t> scolast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WordArt 16"/>
          <p:cNvSpPr txBox="1"/>
          <p:nvPr/>
        </p:nvSpPr>
        <p:spPr>
          <a:xfrm>
            <a:off x="1692360" y="537372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gitte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gitte"/>
              <a:ea typeface="Brigitte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2195640" y="5229360"/>
            <a:ext cx="59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</a:rPr>
              <a:t>altri </a:t>
            </a:r>
            <a:r>
              <a:rPr b="1" i="1" lang="it-IT" sz="2400" spc="-1" strike="noStrike">
                <a:solidFill>
                  <a:srgbClr val="000000"/>
                </a:solidFill>
                <a:latin typeface="Brigitte"/>
              </a:rPr>
              <a:t>soggetti</a:t>
            </a:r>
            <a:r>
              <a:rPr b="1" lang="it-IT" sz="2400" spc="-1" strike="noStrike">
                <a:solidFill>
                  <a:srgbClr val="000000"/>
                </a:solidFill>
                <a:latin typeface="Brigitte"/>
              </a:rPr>
              <a:t> relativamente ad attività svolte nella scuola o    nell’esercizio dell’azione amministrati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21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2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AutoShape 24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25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AutoShape 26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202E-0DF3-47CA-AF71-5392AA719ED9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2843280" y="191628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Introduzione: I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1600200" y="190512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L’esigenza di disporre di un regolamnto specifico discende dalla stessa previsione del Codice sulla Privacy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1600200" y="3048120"/>
            <a:ext cx="648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In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 particolare gli articoli 20, comma 2, e 21, comma 2, dispongono che, nel caso in cui una disposizione di legge specifichi la finalità di rilevante interesse pubblico, ma non i tipi di dati sensibili e giudiziari trattabili ed i tipi di operazioni su questi eseguibili, il trattamento è consentito solo in riferimento a quei tipi di dati e di operazioni identificati e resi pubblici a cura dei soggetti che ne effettuano il trattamento, in relazione alle specifiche finalità perseguite nei singoli cas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27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28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29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AutoShape 30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AutoShape 31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AutoShape 32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7D15-93CA-4DEA-B695-B6CD4ADB236F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843280" y="191628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Introduzione: I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1619280" y="1916280"/>
            <a:ext cx="64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Il Regolamento, predisposto dal MPI, disciplina il trattamento dei dati sensibili e giudiziari gestiti dallo stesso Ministero e dalle istituzioni scolastiche. Si tratta di un quadro generale di garanzie per la gestione dei dati che incidono in modo significativo in particolare sulla sfera privata degli studenti.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1619280" y="386064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Il Regolamento medesimo contiene una serie di </a:t>
            </a:r>
            <a:r>
              <a:rPr b="1" i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"schede"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AutoShape 12"/>
          <p:cNvSpPr/>
          <p:nvPr/>
        </p:nvSpPr>
        <p:spPr>
          <a:xfrm>
            <a:off x="8172360" y="2781360"/>
            <a:ext cx="609840" cy="1584360"/>
          </a:xfrm>
          <a:custGeom>
            <a:avLst/>
            <a:gdLst>
              <a:gd name="textAreaLeft" fmla="*/ 81720 w 609840"/>
              <a:gd name="textAreaRight" fmla="*/ 528120 w 60984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1692360" y="486900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In totale le schede sono 7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19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20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AutoShape 22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AutoShape 23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AutoShape 24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4065-4155-4C83-A9D1-9ACA2821581E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2843280" y="191628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Introduzione: I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1619280" y="191628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Nelle “schede” sono riportate le finalità di rilevante interesse pubblico per </a:t>
            </a:r>
            <a:r>
              <a:rPr b="1" i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"trattare"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i dati sensibili e giudiziar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1692360" y="3068640"/>
            <a:ext cx="6480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ciascuna di esse si articola in diverse parti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rigit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Indicazione del trattament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rigit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Finalità di rilevante interesse pubblico perseguit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rigit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Fonti normati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rigit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Tipi di dati trattati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rigit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Operazioni eseguit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rigit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Altre tipologie di trattament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20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1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AutoShape 23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AutoShape 24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AutoShape 25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08CF-7201-4C48-82EF-6F3CC2947E34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2843280" y="191628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Introduzione: I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1619280" y="191628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Scopo del Regolamento è identificare le tipologie dei dati sensibili e giudiziari e delle operazioni indispensabili per la gestione del sistema dell'istruzion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1600200" y="304812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Arial Unicode MS"/>
              </a:rPr>
              <a:t>Detti dati devono essere trattati previa verifica della loro pertinenza, completezza e indispensabilità rispetto alle finalità perseguite nei vari casi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1600200" y="4343400"/>
            <a:ext cx="64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Arial Unicode MS"/>
              </a:rPr>
              <a:t>Le varie operazione di trattamento (raffronti, interconnessioni, comunicazioni) sui dati raccolti sono ammesse soltanto se indispensabili allo svolgimento degli obblighi o dei compiti di volta in volta individuati e solo per il perseguimento di rilevanti finalità di interesse pubblico e istituziona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18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9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20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AutoShape 21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AutoShape 22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AutoShape 23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8802-77BD-4EBF-ADDF-657C247158F4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2843280" y="191628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Introduzione: I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1600200" y="17524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Il decreto si sostanzia in sette schede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1981080" y="213372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Personale dell'amministrazione e personale scolastico (docenti e ATA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WordArt 12"/>
          <p:cNvSpPr txBox="1"/>
          <p:nvPr/>
        </p:nvSpPr>
        <p:spPr>
          <a:xfrm>
            <a:off x="1752480" y="2209680"/>
            <a:ext cx="92160" cy="3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gitte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gitte"/>
              <a:ea typeface="Brigitte"/>
            </a:endParaRPr>
          </a:p>
        </p:txBody>
      </p:sp>
      <p:sp>
        <p:nvSpPr>
          <p:cNvPr id="195" name="WordArt 13"/>
          <p:cNvSpPr txBox="1"/>
          <p:nvPr/>
        </p:nvSpPr>
        <p:spPr>
          <a:xfrm>
            <a:off x="1752480" y="2819520"/>
            <a:ext cx="9216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gitte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gitte"/>
              <a:ea typeface="Brigitte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1981080" y="281952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Gestione del contenzioso e procedimenti disciplinar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WordArt 15"/>
          <p:cNvSpPr txBox="1"/>
          <p:nvPr/>
        </p:nvSpPr>
        <p:spPr>
          <a:xfrm>
            <a:off x="1752480" y="3352680"/>
            <a:ext cx="92160" cy="3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gitte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gitte"/>
              <a:ea typeface="Brigitte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1981080" y="335268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Organismi collegiali e commissioni istituzional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WordArt 17"/>
          <p:cNvSpPr txBox="1"/>
          <p:nvPr/>
        </p:nvSpPr>
        <p:spPr>
          <a:xfrm>
            <a:off x="1752480" y="3962520"/>
            <a:ext cx="9216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gitte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gitte"/>
              <a:ea typeface="Brigitte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981080" y="38862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Alunni nelle fasi propedeutiche all'avvio dell'anno scolastic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WordArt 19"/>
          <p:cNvSpPr txBox="1"/>
          <p:nvPr/>
        </p:nvSpPr>
        <p:spPr>
          <a:xfrm>
            <a:off x="1752480" y="4648320"/>
            <a:ext cx="9216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gitte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gitte"/>
              <a:ea typeface="Brigitte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1981080" y="464832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Alunni nell'attività didattica e nella valutazion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WordArt 21"/>
          <p:cNvSpPr txBox="1"/>
          <p:nvPr/>
        </p:nvSpPr>
        <p:spPr>
          <a:xfrm>
            <a:off x="1752480" y="5181480"/>
            <a:ext cx="92160" cy="3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gitte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gitte"/>
              <a:ea typeface="Brigitte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1981080" y="518148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Scuole non statal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WordArt 23"/>
          <p:cNvSpPr txBox="1"/>
          <p:nvPr/>
        </p:nvSpPr>
        <p:spPr>
          <a:xfrm>
            <a:off x="1752480" y="5791320"/>
            <a:ext cx="9216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gitte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gitte"/>
              <a:ea typeface="Brigitte"/>
            </a:endParaRPr>
          </a:p>
        </p:txBody>
      </p:sp>
      <p:sp>
        <p:nvSpPr>
          <p:cNvPr id="206" name="Text Box 24"/>
          <p:cNvSpPr/>
          <p:nvPr/>
        </p:nvSpPr>
        <p:spPr>
          <a:xfrm>
            <a:off x="1981080" y="579132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Rapporti scuola-famiglie: gestione del contenzios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Picture 28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29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30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AutoShape 31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32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33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7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20:11:46Z</dcterms:created>
  <dc:creator> pippo</dc:creator>
  <dc:description/>
  <dc:language>en-US</dc:language>
  <cp:lastModifiedBy>Pinocchio</cp:lastModifiedBy>
  <dcterms:modified xsi:type="dcterms:W3CDTF">2010-04-11T20:04:44Z</dcterms:modified>
  <cp:revision>4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